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19A2-3C74-481F-A0BF-7E3C76DD3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EE4A-881A-4274-AFB5-75C13F6439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C0EA-B683-4E83-80FF-7DA184D962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BCD9-C81D-4C27-A0C7-945B410222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FDE2E-7DD7-4D73-974B-AA451AFFB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84945-F132-42C4-9903-B9D47A3A5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4C68D-95F2-4ED2-B493-FB378F739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F9278-EABF-4BF9-BDFE-2AB176577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8A72-0330-43BE-BA46-9220F733A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E6F0-012B-4708-ADF3-7725D5BA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834B7-7D4C-42B9-B5E3-D6B40F75A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7C7B-2532-4616-BCFC-E8704AF87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46D0-C8A4-4107-9E4E-6A4D5D3DA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6F6D-6D85-4E76-BD39-5D5768D5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FD3D-41F9-4CA7-B1C1-613F4CBD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7429-D9DA-40BC-959A-A66CE4640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F2B6-B108-4CB9-8078-3870923DC3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texaspolicy.com/"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cppp.org/"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thefreedictionary.com/constitution"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ng relevant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vereignty, at its simplest, refers to whoever or whatever is in charge of a government.</a:t>
            </a:r>
            <a:br>
              <a:rPr sz="4400"/>
            </a:br>
            <a:br>
              <a:rPr sz="4400"/>
            </a:br>
            <a:r>
              <a:rPr b="0" lang="en-US" sz="4400" spc="-1" strike="noStrike">
                <a:solidFill>
                  <a:srgbClr val="000000"/>
                </a:solidFill>
                <a:latin typeface="Calibri"/>
              </a:rPr>
              <a:t>One whose authority does a governing system 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 the political world in general - exists because our constitutions establish elections. People are then allowed the ability to participate in them. Consent is offered or denied through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more direct sense, politics exists because people are f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hould reflect on this because not all governments are based on the people. Authoritarians and totalitarian systems do not allow popular input – and can even make it illegal. </a:t>
            </a:r>
            <a:br>
              <a:rPr sz="3200"/>
            </a:br>
            <a:br>
              <a:rPr sz="3200"/>
            </a:br>
            <a:r>
              <a:rPr b="0" lang="en-US" sz="3200" spc="-1" strike="noStrike">
                <a:solidFill>
                  <a:srgbClr val="000000"/>
                </a:solidFill>
                <a:latin typeface="Calibri"/>
              </a:rPr>
              <a:t>We can engage in political activity because we live in a system that allows for individual freedom, including the ability of people to speak, use the press, form groups and petition for a redress of griev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that the next time you complain about politics.</a:t>
            </a:r>
            <a:br>
              <a:rPr sz="4400"/>
            </a:br>
            <a:br>
              <a:rPr sz="4400"/>
            </a:br>
            <a:r>
              <a:rPr b="0" lang="en-US" sz="4400" spc="-1" strike="noStrike">
                <a:solidFill>
                  <a:srgbClr val="000000"/>
                </a:solidFill>
                <a:latin typeface="Calibri"/>
              </a:rPr>
              <a:t>It could be worse – you could live in a system that does not allow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and Texas, various institutions have evolved over time in order to influence governments.</a:t>
            </a:r>
            <a:br>
              <a:rPr sz="4400"/>
            </a:br>
            <a:br>
              <a:rPr sz="4400"/>
            </a:br>
            <a:r>
              <a:rPr b="0" lang="en-US" sz="4400" spc="-1" strike="noStrike">
                <a:solidFill>
                  <a:srgbClr val="000000"/>
                </a:solidFill>
                <a:latin typeface="Calibri"/>
              </a:rPr>
              <a:t>Many of which have roots that go back to colonial and British ti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I argue that the political world began to expand considerably once the arbitrary power of the monarch was contained following the signing of the British Bill of Rights and the imposition of limits on govern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wer was no longer able to use arbitrary power to punish people who disagreed with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became free to hold and articulate their own points of view, and to engage in activities that allowed them to promote preferred policies.</a:t>
            </a:r>
            <a:br>
              <a:rPr sz="3200"/>
            </a:br>
            <a:br>
              <a:rPr sz="3200"/>
            </a:br>
            <a:r>
              <a:rPr b="0" lang="en-US" sz="3200" spc="-1" strike="noStrike">
                <a:solidFill>
                  <a:srgbClr val="000000"/>
                </a:solidFill>
                <a:latin typeface="Calibri"/>
              </a:rPr>
              <a:t>As we will see, this is a simplification. Limits still existed, but they began to be ero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who is able to participate politically – effectively – is an ongoing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dominant political institution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do 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introduce each below, but first a word or two on public opinion, Texas, like the other states and the nation as a whole, is a democratic republic which rests on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licies Texas adopts are assumed to be based on the general preferences of the public.</a:t>
            </a:r>
            <a:br>
              <a:rPr sz="4000"/>
            </a:br>
            <a:br>
              <a:rPr sz="4000"/>
            </a:br>
            <a:r>
              <a:rPr b="0" lang="en-US" sz="4000" spc="-1" strike="noStrike">
                <a:solidFill>
                  <a:srgbClr val="000000"/>
                </a:solidFill>
                <a:latin typeface="Calibri"/>
              </a:rPr>
              <a:t>But governing officials are actually more attuned to the interests of those who participate actively in politics. This isn’t necessarily the same as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that we will touch on repeated throughout the class. Its not “the people” that count when it comes to determining what Texas government does, its what “the participants” want that reall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an upcoming set of slides, Texas – statewide – contains majorities that tend to support conservative policies. And even when clear majorities do not support these policies, the dominant political institution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be a low tax, low services state, that also supports conservative social policies. </a:t>
            </a:r>
            <a:br>
              <a:rPr sz="4400"/>
            </a:br>
            <a:br>
              <a:rPr sz="4400"/>
            </a:br>
            <a:r>
              <a:rPr b="0" lang="en-US" sz="4400" spc="-1" strike="noStrike">
                <a:solidFill>
                  <a:srgbClr val="000000"/>
                </a:solidFill>
                <a:latin typeface="Calibri"/>
              </a:rPr>
              <a:t>But there is no consensus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ideolo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efined ideology as a set of issue positions based on an underlying value.</a:t>
            </a:r>
            <a:br>
              <a:rPr sz="4400"/>
            </a:br>
            <a:br>
              <a:rPr sz="4400"/>
            </a:br>
            <a:r>
              <a:rPr b="0" lang="en-US" sz="4400" spc="-1" strike="noStrike">
                <a:solidFill>
                  <a:srgbClr val="000000"/>
                </a:solidFill>
                <a:latin typeface="Calibri"/>
              </a:rPr>
              <a:t>A value being a sense of right and wrong and an issue position being an opinion on a topical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focused attention on the importance on the importance of three dominant values: Liberty, Equalit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values of liberty and tradition tend to dominate the value of equality. </a:t>
            </a:r>
            <a:br>
              <a:rPr sz="4000"/>
            </a:br>
            <a:br>
              <a:rPr sz="4000"/>
            </a:br>
            <a:r>
              <a:rPr b="0" lang="en-US" sz="4000" spc="-1" strike="noStrike">
                <a:solidFill>
                  <a:srgbClr val="000000"/>
                </a:solidFill>
                <a:latin typeface="Calibri"/>
              </a:rPr>
              <a:t>This isn’t the case in other states or, depending on who controls national institutions, the national government. As we will see, this is the source of the bulk of political conflict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people do not spending too much time figuring out how they should be positioned on different issues and therefore adopt a primary value and use cues received from trusted sources to determine how they should position themselves on specific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ited States and Texas, we are reminded continually, are both based on popular sovereignty. Authority rests on the people. Everything it does must be consented to. This is what the phrase “the consent of the governed” means.</a:t>
            </a:r>
            <a:br>
              <a:rPr sz="4000"/>
            </a:br>
            <a:br>
              <a:rPr sz="4000"/>
            </a:br>
            <a:r>
              <a:rPr b="0" i="1" lang="en-US" sz="2500" spc="-1" strike="noStrike">
                <a:solidFill>
                  <a:srgbClr val="000000"/>
                </a:solidFill>
                <a:latin typeface="Calibri"/>
              </a:rPr>
              <a:t>. . . though we commonly debate </a:t>
            </a:r>
            <a:br>
              <a:rPr sz="2500"/>
            </a:br>
            <a:r>
              <a:rPr b="0" i="1" lang="en-US" sz="2500" spc="-1" strike="noStrike">
                <a:solidFill>
                  <a:srgbClr val="000000"/>
                </a:solidFill>
                <a:latin typeface="Calibri"/>
              </a:rPr>
              <a:t>whether this is in fact the case . .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often adopt a primary media source because is confirms their value system and allows them to interpret events in a manner that conforms to that value.</a:t>
            </a:r>
            <a:br>
              <a:rPr sz="3600"/>
            </a:br>
            <a:br>
              <a:rPr sz="3600"/>
            </a:br>
            <a:r>
              <a:rPr b="0" lang="en-US" sz="3600" spc="-1" strike="noStrike">
                <a:solidFill>
                  <a:srgbClr val="000000"/>
                </a:solidFill>
                <a:latin typeface="Calibri"/>
              </a:rPr>
              <a:t>Again, this creates conflict. People who watch – for example – Fox News have a different world view than those who watch the mainstream m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is writing (5/20/12) gay marriage is a dominant issue due to President Obama’s recent statement of personal support for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se primary value is equality or liberty are generally in favor of gay marriage.</a:t>
            </a:r>
            <a:br>
              <a:rPr sz="4400"/>
            </a:br>
            <a:br>
              <a:rPr sz="4400"/>
            </a:br>
            <a:r>
              <a:rPr b="0" lang="en-US" sz="4400" spc="-1" strike="noStrike">
                <a:solidFill>
                  <a:srgbClr val="000000"/>
                </a:solidFill>
                <a:latin typeface="Calibri"/>
              </a:rPr>
              <a:t>It allows different people to be treated equally before the law, as well as the freedom to enter into relationships they ch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ts – which also refers to the religious – see this as an affront to the traditional definition of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l correct within their own spheres. The question is, how have a given value system and how many then come to the conclusion about the policy due to their valu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mplicate things further, not all local areas – especially the large metropolitan areas – share these positions, so areas of conflict do exist. The cities of Austin, Houston and Dallas tend to be more liberal than the state as a whole.</a:t>
            </a:r>
            <a:br>
              <a:rPr sz="3600"/>
            </a:br>
            <a:br>
              <a:rPr sz="3600"/>
            </a:br>
            <a:r>
              <a:rPr b="0" lang="en-US" sz="3600" spc="-1" strike="noStrike">
                <a:solidFill>
                  <a:srgbClr val="000000"/>
                </a:solidFill>
                <a:latin typeface="Calibri"/>
              </a:rPr>
              <a:t>We will also dig into the conflict this creates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is conflict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lso mat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states, certain issues are more important in Texas, based on which interests are dominant within the state, and the content of the political culture – which we cover more fully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energy, commerce, aerospace and a handful of other issues are especially important in the state and local areas. </a:t>
            </a:r>
            <a:br>
              <a:rPr sz="4400"/>
            </a:br>
            <a:br>
              <a:rPr sz="4400"/>
            </a:br>
            <a:r>
              <a:rPr b="0" lang="en-US" sz="4400" spc="-1" strike="noStrike">
                <a:solidFill>
                  <a:srgbClr val="000000"/>
                </a:solidFill>
                <a:latin typeface="Calibri"/>
              </a:rPr>
              <a:t>In the local area, this includes medical and high tech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introduce ourselves to some of the dominant political institutions in the state and local areas.</a:t>
            </a:r>
            <a:br>
              <a:rPr sz="4400"/>
            </a:br>
            <a:br>
              <a:rPr sz="4400"/>
            </a:br>
            <a:r>
              <a:rPr b="0" lang="en-US" sz="4400" spc="-1" strike="noStrike">
                <a:solidFill>
                  <a:srgbClr val="000000"/>
                </a:solidFill>
                <a:latin typeface="Calibri"/>
              </a:rPr>
              <a:t>The goal is to become familiar with these terms so you can use them fluently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groups of individuals organized formally who unite to compete in elections. By winning office they can control governing institutions and are in a good position to implement their desir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s the case nationally, and in each of the states, the two dominant parties in the state are the Democratic and Republican parties. But the state parties are very different than the national parties and can compete with it to determine what the party really stands f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each party competes with each other relatively evenly nationally, Texas has a tendency to be controlled by on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1960s, the Democratic Party dominated politics utterly, but shifts in the national Democratic Party led conservative members to gradually leave and join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the early 1990s, the Republican Party became the dominant force in the state. They are not as strong as the Democrats were at their peak, but they dominate state wide offices like the governor, and other executive offices, the US Senator. They have also recently had comfortable majorities in the Texas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of thumb: There is a party organization in every level of government where there is an election. </a:t>
            </a:r>
            <a:br>
              <a:rPr sz="4400"/>
            </a:br>
            <a:br>
              <a:rPr sz="4400"/>
            </a:br>
            <a:r>
              <a:rPr b="0" lang="en-US" sz="4400" spc="-1" strike="noStrike">
                <a:solidFill>
                  <a:srgbClr val="000000"/>
                </a:solidFill>
                <a:latin typeface="Calibri"/>
              </a:rPr>
              <a:t>This is true down to the prec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to remember: Each party is not only organized at the state level, but also at the county and precinct levels. Conflict between each is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state Democratic and Republican Parties, we will be looking at area county parties as well as local clu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tate elections – including county elections – are partisan (meaning that candidates run with party labels), city elections are not. </a:t>
            </a:r>
            <a:br>
              <a:rPr sz="4400"/>
            </a:br>
            <a:br>
              <a:rPr sz="4400"/>
            </a:br>
            <a:r>
              <a:rPr b="0" lang="en-US" sz="4400" spc="-1" strike="noStrike">
                <a:solidFill>
                  <a:srgbClr val="000000"/>
                </a:solidFill>
                <a:latin typeface="Calibri"/>
              </a:rPr>
              <a:t>City and single purpose government elections (ISD’s, etc…) ar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lso defined as groups of people organized to pursue a shared policy goal, but interest groups are narrowly organized to obtain that goal – not to contest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diverse groups operate within the state, business groups and those affiliated with social conservatives – the Christian Right – are especially influential with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ose affiliated with liberal causes – unions, trial lawyers, the public sector – have been minimized in recent decades.</a:t>
            </a:r>
            <a:br>
              <a:rPr sz="4400"/>
            </a:br>
            <a:br>
              <a:rPr sz="4400"/>
            </a:br>
            <a:r>
              <a:rPr b="0" lang="en-US" sz="4400" spc="-1" strike="noStrike">
                <a:solidFill>
                  <a:srgbClr val="000000"/>
                </a:solidFill>
                <a:latin typeface="Calibri"/>
              </a:rPr>
              <a:t>But they are still influent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think tanks also exist which churn out ideas, policy proposals and talking points for other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as Public Policy Foundation</a:t>
            </a:r>
            <a:r>
              <a:rPr b="0" lang="en-US" sz="4400" spc="-1" strike="noStrike">
                <a:solidFill>
                  <a:srgbClr val="000000"/>
                </a:solidFill>
                <a:latin typeface="Calibri"/>
              </a:rPr>
              <a:t> is a source for conservative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enter for Public Policy Priorities</a:t>
            </a:r>
            <a:r>
              <a:rPr b="0" lang="en-US" sz="4400" spc="-1" strike="noStrike">
                <a:solidFill>
                  <a:srgbClr val="000000"/>
                </a:solidFill>
                <a:latin typeface="Calibri"/>
              </a:rPr>
              <a:t> is a source for liberal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n Texas is dominated by a handful of newspapers, none of which has a huge impact 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stin American Statesman</a:t>
            </a:r>
            <a:br>
              <a:rPr sz="4400"/>
            </a:br>
            <a:r>
              <a:rPr b="0" lang="en-US" sz="4400" spc="-1" strike="noStrike">
                <a:solidFill>
                  <a:srgbClr val="000000"/>
                </a:solidFill>
                <a:latin typeface="Calibri"/>
              </a:rPr>
              <a:t>Dallas Morning News</a:t>
            </a:r>
            <a:br>
              <a:rPr sz="4400"/>
            </a:br>
            <a:r>
              <a:rPr b="0" lang="en-US" sz="4400" spc="-1" strike="noStrike">
                <a:solidFill>
                  <a:srgbClr val="000000"/>
                </a:solidFill>
                <a:latin typeface="Calibri"/>
              </a:rPr>
              <a:t>Houston Chron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entry in the market is the online newspaper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newspapers and media sources, they contain editorial boards that take positions on policy issues and make recommendations for candidates for various elected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much direct and immediate control do “the people” have over government? </a:t>
            </a:r>
            <a:br>
              <a:rPr sz="4000"/>
            </a:br>
            <a:br>
              <a:rPr sz="4000"/>
            </a:br>
            <a:r>
              <a:rPr b="0" lang="en-US" sz="4000" spc="-1" strike="noStrike">
                <a:solidFill>
                  <a:srgbClr val="000000"/>
                </a:solidFill>
                <a:latin typeface="Calibri"/>
              </a:rPr>
              <a:t>As we will see soon enough, the people (more specifically – the electorate) have little direct control over government, but more so in Texas than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more to say but this is enough for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this overview of terms in mind, you should be set to more efficiently cover the material presented in upcoming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nk of the story about what it takes to steer a supertanker – it takes small adjustments miles a turn has to take place. </a:t>
            </a:r>
            <a:br>
              <a:rPr sz="3600"/>
            </a:br>
            <a:br>
              <a:rPr sz="3600"/>
            </a:br>
            <a:r>
              <a:rPr b="0" lang="en-US" sz="3600" spc="-1" strike="noStrike">
                <a:solidFill>
                  <a:srgbClr val="000000"/>
                </a:solidFill>
                <a:latin typeface="Calibri"/>
              </a:rPr>
              <a:t>It’s the same thing with the American governing system. Periodic elections allow for small corrections in policy by adjusting who is in control of each governing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controversy: </a:t>
            </a:r>
            <a:br>
              <a:rPr sz="4400"/>
            </a:br>
            <a:br>
              <a:rPr sz="4400"/>
            </a:br>
            <a:r>
              <a:rPr b="0" lang="en-US" sz="4400" spc="-1" strike="noStrike">
                <a:solidFill>
                  <a:srgbClr val="000000"/>
                </a:solidFill>
                <a:latin typeface="Calibri"/>
              </a:rPr>
              <a:t>How can two level of government be sovereign? How can you have two bo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sions between the state and national government are common. The power of the national government is supreme – according to the Supremacy Clause – but its power is supposed to be limited also. States have authority over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vereignty is especially touchy in Texas since – among other things – it was once an independent nation. </a:t>
            </a:r>
            <a:br>
              <a:rPr sz="4000"/>
            </a:br>
            <a:br>
              <a:rPr sz="4000"/>
            </a:br>
            <a:r>
              <a:rPr b="0" lang="en-US" sz="4000" spc="-1" strike="noStrike">
                <a:solidFill>
                  <a:srgbClr val="000000"/>
                </a:solidFill>
                <a:latin typeface="Calibri"/>
              </a:rPr>
              <a:t>Texas commonly disputes the ability of the national government to impose limits on how it conducts elections, emits pollutants, and others thing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d in 2305, I want to clarify – broadly – what is meant by two key terms, and what they mean in the context of the government of Texas and local population cen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lict involves disputes over the meaning of constitutional concepts like “commerce clause” authority and the extent of the “reserved powers.” Conflict also stems from the fact that the people of Texas are citizens of the national and state governments.</a:t>
            </a:r>
            <a:br>
              <a:rPr sz="3600"/>
            </a:br>
            <a:br>
              <a:rPr sz="3600"/>
            </a:br>
            <a:r>
              <a:rPr b="0" lang="en-US" sz="3600" spc="-1" strike="noStrike">
                <a:solidFill>
                  <a:srgbClr val="000000"/>
                </a:solidFill>
                <a:latin typeface="Calibri"/>
              </a:rPr>
              <a:t>We will spend some time outlining this conflict over this semest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institutions of government and politics, we will look at how some of these policies are established and implemented – as well as the range of conflicts that surround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good way to look at government as a dynamic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a fourth term worth outlining before we proceed further: </a:t>
            </a:r>
            <a:br>
              <a:rPr sz="4400"/>
            </a:br>
            <a:br>
              <a:rPr sz="4400"/>
            </a:b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there are several definitions of public policy.</a:t>
            </a:r>
            <a:br>
              <a:rPr sz="4400"/>
            </a:br>
            <a:br>
              <a:rPr sz="4400"/>
            </a:br>
            <a:r>
              <a:rPr b="0" lang="en-US" sz="4400" spc="-1" strike="noStrike">
                <a:solidFill>
                  <a:srgbClr val="000000"/>
                </a:solidFill>
                <a:latin typeface="Calibri"/>
              </a:rPr>
              <a:t>Here are a cou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 is the stuff government does (or chooses not to do) to deal with a problem that has emerged on the public’s agenda.</a:t>
            </a:r>
            <a:br>
              <a:rPr sz="4400"/>
            </a:br>
            <a:br>
              <a:rPr sz="4400"/>
            </a:br>
            <a:r>
              <a:rPr b="0" lang="en-US" sz="4400" spc="-1" strike="noStrike">
                <a:solidFill>
                  <a:srgbClr val="000000"/>
                </a:solidFill>
                <a:latin typeface="Calibri"/>
              </a:rPr>
              <a:t>Here ar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ign Policy</a:t>
            </a:r>
            <a:br>
              <a:rPr sz="4400"/>
            </a:br>
            <a:r>
              <a:rPr b="0" lang="en-US" sz="4400" spc="-1" strike="noStrike">
                <a:solidFill>
                  <a:srgbClr val="000000"/>
                </a:solidFill>
                <a:latin typeface="Calibri"/>
              </a:rPr>
              <a:t>Energy Policy</a:t>
            </a: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Defense Policy</a:t>
            </a:r>
            <a:br>
              <a:rPr sz="4400"/>
            </a:br>
            <a:r>
              <a:rPr b="0" lang="en-US" sz="4400" spc="-1" strike="noStrike">
                <a:solidFill>
                  <a:srgbClr val="000000"/>
                </a:solidFill>
                <a:latin typeface="Calibri"/>
              </a:rPr>
              <a:t>Health Policy</a:t>
            </a:r>
            <a:br>
              <a:rPr sz="4400"/>
            </a:br>
            <a:r>
              <a:rPr b="0" lang="en-US" sz="4400" spc="-1" strike="noStrike">
                <a:solidFill>
                  <a:srgbClr val="000000"/>
                </a:solidFill>
                <a:latin typeface="Calibri"/>
              </a:rPr>
              <a:t>Criminal Justi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way we can define “government” is those institutions that are responsible for establishing and implementing thos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s discussion of federalism, we mentioned that certain policies tend to fall more squarely on the national, state or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licies tend to be those that are delegated to the national government in the Constitution. These are mostly commercial and military in nature. Foreign policy is almost fully controll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Tenth Amendment which establishes that powers (policies) not restricted to the states are reserved to them – which carries the assumption that the national government cannot pass laws abou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often referred to as the police powers.</a:t>
            </a:r>
            <a:br>
              <a:rPr sz="4400"/>
            </a:br>
            <a:br>
              <a:rPr sz="4400"/>
            </a:br>
            <a:r>
              <a:rPr b="0" lang="en-US" sz="4400" spc="-1" strike="noStrike">
                <a:solidFill>
                  <a:srgbClr val="000000"/>
                </a:solidFill>
                <a:latin typeface="Calibri"/>
              </a:rPr>
              <a:t>The power to regulate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policies impact commerce, which the national government has used to justify passing laws that affect police powers. </a:t>
            </a:r>
            <a:br>
              <a:rPr sz="3600"/>
            </a:br>
            <a:br>
              <a:rPr sz="3600"/>
            </a:br>
            <a:r>
              <a:rPr b="0" lang="en-US" sz="3600" spc="-1" strike="noStrike">
                <a:solidFill>
                  <a:srgbClr val="000000"/>
                </a:solidFill>
                <a:latin typeface="Calibri"/>
              </a:rPr>
              <a:t>Crime, for example, impacts the flow of commerce. The national government has been able to justify getting involved in interstate crime on that ba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being: the public policy process in the United States (like all aspects of American government) is very complex and involves multiple actors motivated with often competing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re are certain types of policies that are mostly contained within Texas. We will look at some of these. Especially: </a:t>
            </a:r>
            <a:br>
              <a:rPr sz="4400"/>
            </a:b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Criminal Justice Policy</a:t>
            </a:r>
            <a:br>
              <a:rPr sz="4400"/>
            </a:br>
            <a:r>
              <a:rPr b="0" lang="en-US" sz="4400" spc="-1" strike="noStrike">
                <a:solidFill>
                  <a:srgbClr val="000000"/>
                </a:solidFill>
                <a:latin typeface="Calibri"/>
              </a:rPr>
              <a:t>Economic Developmen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go 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the term used to define the institutions that have evolved to establish, implement, and adjudicate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iscussed the factors related to the development of governments, its major components and different types of governing systems.</a:t>
            </a:r>
            <a:br>
              <a:rPr sz="3600"/>
            </a:br>
            <a:br>
              <a:rPr sz="3600"/>
            </a:br>
            <a:r>
              <a:rPr b="0" lang="en-US" sz="3600" spc="-1" strike="noStrike">
                <a:solidFill>
                  <a:srgbClr val="000000"/>
                </a:solidFill>
                <a:latin typeface="Calibri"/>
              </a:rPr>
              <a:t>The constitutional democratic republic that the U.S. is governed by is just one of a variety of different governing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things worth remembering from tha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 want to look at the terms “sovereignty” an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overnments, historically, have evolved either due to coercion or consent. The historical record provides more evidence of governments established by coercion, but the American system is based on the idea that governments actually evolve due to a agreements people enter into voluntarily in order to better provide for mutual security. In this arrangement, people consent to rule rather than being coerced into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course in reality, once a policy is put in place, the state has to have coercive power to ensure it is followed.</a:t>
            </a:r>
            <a:br>
              <a:rPr sz="4400"/>
            </a:br>
            <a:br>
              <a:rPr sz="4400"/>
            </a:br>
            <a:r>
              <a:rPr b="0" lang="en-US" sz="4400" spc="-1" strike="noStrike">
                <a:solidFill>
                  <a:srgbClr val="000000"/>
                </a:solidFill>
                <a:latin typeface="Calibri"/>
              </a:rPr>
              <a:t>Think about how speed limit laws are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order to in fact rule, government shave to be able to do two things: collect revenue and coerce people to follow the law. </a:t>
            </a:r>
            <a:br>
              <a:rPr sz="4400"/>
            </a:br>
            <a:br>
              <a:rPr sz="4400"/>
            </a:br>
            <a:r>
              <a:rPr b="0" lang="en-US" sz="4400" spc="-1" strike="noStrike">
                <a:solidFill>
                  <a:srgbClr val="000000"/>
                </a:solidFill>
                <a:latin typeface="Calibri"/>
              </a:rPr>
              <a:t>If a government can do neither, then its not really a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governments can be arranged in one of three basic ways depending on where sovereignty is located: Autocratic, Oligarchic and Democratic. Respectively these are referred to as the rule of the one, the few and the ma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e each had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cies are efficient, but prone to arbitrary rule.</a:t>
            </a:r>
            <a:br>
              <a:rPr sz="4400"/>
            </a:br>
            <a:br>
              <a:rPr sz="4400"/>
            </a:br>
            <a:r>
              <a:rPr b="0" lang="en-US" sz="4400" spc="-1" strike="noStrike">
                <a:solidFill>
                  <a:srgbClr val="000000"/>
                </a:solidFill>
                <a:latin typeface="Calibri"/>
              </a:rPr>
              <a:t>Executive branches in the US tend to have an autocratic character in order to ensure that laws are implemented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ligarchies allows for knowledgeable rule, but are subject to bias.</a:t>
            </a:r>
            <a:br>
              <a:rPr sz="4000"/>
            </a:br>
            <a:br>
              <a:rPr sz="4000"/>
            </a:br>
            <a:r>
              <a:rPr b="0" lang="en-US" sz="4000" spc="-1" strike="noStrike">
                <a:solidFill>
                  <a:srgbClr val="000000"/>
                </a:solidFill>
                <a:latin typeface="Calibri"/>
              </a:rPr>
              <a:t>The courts in the US tend to have an autocratic design so that we have judges who have the knowledge to be able to make just decisions on the controversies that come befor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cracies offer legitimacy, but can be prone to mob rule.</a:t>
            </a:r>
            <a:br>
              <a:rPr sz="4000"/>
            </a:br>
            <a:br>
              <a:rPr sz="4000"/>
            </a:br>
            <a:r>
              <a:rPr b="0" lang="en-US" sz="4000" spc="-1" strike="noStrike">
                <a:solidFill>
                  <a:srgbClr val="000000"/>
                </a:solidFill>
                <a:latin typeface="Calibri"/>
              </a:rPr>
              <a:t>Our legislatures tend to be the most democratic institutions in order to ensure that diverse viewpoints are brought to bear when policies are debated and adop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different ways to define democracy – the simplest being majority rule. A more expansive definition also includes the requirement that democracies include universal adult suffrage and protection for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ension.</a:t>
            </a:r>
            <a:br>
              <a:rPr sz="4400"/>
            </a:br>
            <a:br>
              <a:rPr sz="4400"/>
            </a:br>
            <a:r>
              <a:rPr b="0" lang="en-US" sz="4400" spc="-1" strike="noStrike">
                <a:solidFill>
                  <a:srgbClr val="000000"/>
                </a:solidFill>
                <a:latin typeface="Calibri"/>
              </a:rPr>
              <a:t>Majorities commonly attempt to minimize the rights of minorities through the democratic process. Majorities can control democratic institution and turn them – effectively into tyran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305 we read through Federalist #10, which was Madison’s attempt to explain how the US Constitution addresses the problem of tyranny of the majority by allowing for the establishment of a republic over a large territory, which includes many interests and reduces the change that a majority group can rally around a single interest and control all branches of govern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majorities will be unlikely to form since they can be easily broken ap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estion we will ask throughout this semester is whether same dynamic works in Texas.</a:t>
            </a:r>
            <a:br>
              <a:rPr sz="4400"/>
            </a:br>
            <a:br>
              <a:rPr sz="4400"/>
            </a:br>
            <a:r>
              <a:rPr b="0" lang="en-US" sz="4400" spc="-1" strike="noStrike">
                <a:solidFill>
                  <a:srgbClr val="000000"/>
                </a:solidFill>
                <a:latin typeface="Calibri"/>
              </a:rPr>
              <a:t>Madison thought that tyrannical majorities were more likely to form at the state, and especially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exas prone to majority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we mentioned that governments tend to do three things. They make, implement and adjudicate the law. Recall that James Madison argued that the concentration of these three powers in one person or institutions is the very definition of tyran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at explains why powers are separated. </a:t>
            </a:r>
            <a:br>
              <a:rPr sz="4400"/>
            </a:br>
            <a:br>
              <a:rPr sz="4400"/>
            </a:br>
            <a:r>
              <a:rPr b="0" lang="en-US" sz="4400" spc="-1" strike="noStrike">
                <a:solidFill>
                  <a:srgbClr val="000000"/>
                </a:solidFill>
                <a:latin typeface="Calibri"/>
              </a:rPr>
              <a:t>But how are they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American system, the separated powers are vested in three separate institutions. Each is designed internally so they check and balance each other. The bulk of the specific powers given to each branch was meant to allow each to resist the incursions of the oth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Texas, as we will see soon enough, though there are crucial disti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also that each of the three separated institutions is designed in a way that mimics the autocratic, oligarchic, and democratic designs discussed earli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democratic</a:t>
            </a:r>
            <a:br>
              <a:rPr sz="4400"/>
            </a:br>
            <a:r>
              <a:rPr b="0" lang="en-US" sz="4400" spc="-1" strike="noStrike">
                <a:solidFill>
                  <a:srgbClr val="000000"/>
                </a:solidFill>
                <a:latin typeface="Calibri"/>
              </a:rPr>
              <a:t>The executive is autocratic</a:t>
            </a:r>
            <a:br>
              <a:rPr sz="4400"/>
            </a:br>
            <a:r>
              <a:rPr b="0" lang="en-US" sz="4400" spc="-1" strike="noStrike">
                <a:solidFill>
                  <a:srgbClr val="000000"/>
                </a:solidFill>
                <a:latin typeface="Calibri"/>
              </a:rPr>
              <a:t>The judiciary is oligarchic</a:t>
            </a:r>
            <a:br>
              <a:rPr sz="4400"/>
            </a:br>
            <a:br>
              <a:rPr sz="4400"/>
            </a:br>
            <a:r>
              <a:rPr b="0" lang="en-US" sz="4400" spc="-1" strike="noStrike">
                <a:solidFill>
                  <a:srgbClr val="000000"/>
                </a:solidFill>
                <a:latin typeface="Calibri"/>
              </a:rPr>
              <a:t>Each design allows each institution to best perform its unique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much further, let define one more term: </a:t>
            </a:r>
            <a:br>
              <a:rPr sz="4400"/>
            </a:br>
            <a:br>
              <a:rPr sz="4400"/>
            </a:br>
            <a:r>
              <a:rPr b="0" lang="en-US" sz="4400" spc="-1" strike="noStrike">
                <a:solidFill>
                  <a:srgbClr val="000000"/>
                </a:solidFill>
                <a:latin typeface="Calibri"/>
              </a:rPr>
              <a:t>Constitution</a:t>
            </a:r>
            <a:br>
              <a:rPr sz="4400"/>
            </a:br>
            <a:br>
              <a:rPr sz="4400"/>
            </a:br>
            <a:r>
              <a:rPr b="0" lang="en-US" sz="4400" spc="-1" strike="noStrike">
                <a:solidFill>
                  <a:srgbClr val="000000"/>
                </a:solidFill>
                <a:latin typeface="Calibri"/>
              </a:rPr>
              <a:t>What is a </a:t>
            </a:r>
            <a:r>
              <a:rPr b="0" lang="en-US" sz="4400" spc="-1" strike="noStrike" u="sng">
                <a:solidFill>
                  <a:srgbClr val="0000ff"/>
                </a:solidFill>
                <a:uFillTx/>
                <a:latin typeface="Calibri"/>
                <a:hlinkClick r:id="rId1"/>
              </a:rPr>
              <a:t>Constit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an be defined in many ways, but in essence a Constitution establishes basic governing institutions, defines their powers and limitations, and clarifies the relationship between the government and the people.</a:t>
            </a:r>
            <a:endParaRPr b="0" lang="en-US" sz="4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the nature of the US Constitution, in 2306 we look at state constitutions and the Texas Constitution. </a:t>
            </a:r>
            <a:br>
              <a:rPr sz="4400"/>
            </a:br>
            <a:br>
              <a:rPr sz="4400"/>
            </a:br>
            <a:r>
              <a:rPr b="0" lang="en-US" sz="4400" spc="-1" strike="noStrike">
                <a:solidFill>
                  <a:srgbClr val="000000"/>
                </a:solidFill>
                <a:latin typeface="Calibri"/>
              </a:rPr>
              <a:t>We will note distinctions between the two as we go for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ucial point, one that helps us understand what makes the constitutional structure of Texas – and other similar states – different than that of the US.</a:t>
            </a:r>
            <a:br>
              <a:rPr sz="4400"/>
            </a:br>
            <a:br>
              <a:rPr sz="4400"/>
            </a:br>
            <a:r>
              <a:rPr b="0" lang="en-US" sz="4400" spc="-1" strike="noStrike">
                <a:solidFill>
                  <a:srgbClr val="000000"/>
                </a:solidFill>
                <a:latin typeface="Calibri"/>
              </a:rPr>
              <a:t>It’s a point we will make repeatedly throughout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Constitution was designed to place barriers between the people and the government in order to give the government leeway in performing its functions, the Texas Constitution is designed to constra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that the US Constitution replaced the confederated system established in the Articles of Confederation which the Federalists judged to be too weak to govern the newly formed nation.</a:t>
            </a:r>
            <a:br>
              <a:rPr sz="3600"/>
            </a:br>
            <a:br>
              <a:rPr sz="3600"/>
            </a:br>
            <a:r>
              <a:rPr b="0" lang="en-US" sz="3600" spc="-1" strike="noStrike">
                <a:solidFill>
                  <a:srgbClr val="000000"/>
                </a:solidFill>
                <a:latin typeface="Calibri"/>
              </a:rPr>
              <a:t>The Anti-Federalists – if you recall – disagre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features centralized executive power, appointed positions and long terms lengths where the Texas Constitution divides power and establishes a sizeable number of elected position with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emingly simple distinction matters.</a:t>
            </a:r>
            <a:br>
              <a:rPr sz="4400"/>
            </a:br>
            <a:br>
              <a:rPr sz="4400"/>
            </a:br>
            <a:r>
              <a:rPr b="0" lang="en-US" sz="4400" spc="-1" strike="noStrike">
                <a:solidFill>
                  <a:srgbClr val="000000"/>
                </a:solidFill>
                <a:latin typeface="Calibri"/>
              </a:rPr>
              <a:t>The former design allows for more government power, while the latter limit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Texas Constitution gives the general population – specifically the majority – the ability to control it. </a:t>
            </a:r>
            <a:br>
              <a:rPr sz="4000"/>
            </a:br>
            <a:br>
              <a:rPr sz="4000"/>
            </a:br>
            <a:r>
              <a:rPr b="0" lang="en-US" sz="4000" spc="-1" strike="noStrike">
                <a:solidFill>
                  <a:srgbClr val="000000"/>
                </a:solidFill>
                <a:latin typeface="Calibri"/>
              </a:rPr>
              <a:t>It is a far more democratic constitution – at least in terms of majority, not necessarily minority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conflict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probably not a bad idea to think of the Texas Constitution and government as being designed and run by people who are more in line with the legacy of the Anti-Federalists than the Federalists. </a:t>
            </a:r>
            <a:br>
              <a:rPr sz="4000"/>
            </a:br>
            <a:br>
              <a:rPr sz="4000"/>
            </a:br>
            <a:r>
              <a:rPr b="0" lang="en-US" sz="4000" spc="-1" strike="noStrike">
                <a:solidFill>
                  <a:srgbClr val="000000"/>
                </a:solidFill>
                <a:latin typeface="Calibri"/>
              </a:rPr>
              <a:t>Keep this in mind as we go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is more deeply as we look at each institution separately, but for now its worth noting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Legislature is composed of two chambers, as is the US Congress, a House that is composed of 150 members elected to two years terms and a Senate composed of 31 members who serve overlapping 4 years terms. Each is elected directly by the citizens of the state in each of the separate districts created across the state every ten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executive branch is composed of several separately elected offices, most notably the governor, but also the attorney general, the land commissioner, the comptroller, and the lieutenant governor. </a:t>
            </a:r>
            <a:br>
              <a:rPr sz="3600"/>
            </a:br>
            <a:br>
              <a:rPr sz="3600"/>
            </a:br>
            <a:r>
              <a:rPr b="0" lang="en-US" sz="3600" spc="-1" strike="noStrike">
                <a:solidFill>
                  <a:srgbClr val="000000"/>
                </a:solidFill>
                <a:latin typeface="Calibri"/>
              </a:rPr>
              <a:t>The plural design is intended to divide executive power and make it less effec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s composed of judges in several levels all of whom are elected to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ll other states, Texas has the power – under the reserved powers – to established local governments. Each has the power to impose and collect taxes, and to use coercion to compel people to follow the law. That’s what qualifies them to be considered governme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se fall under a handful of catego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Texas has 254 counties, which implement a variety of laws passed by the state and enforce criminal law in unincorporated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nty governments are overseen by a locally elected county commission headed by a county judge. </a:t>
            </a:r>
            <a:br>
              <a:rPr sz="4000"/>
            </a:br>
            <a:br>
              <a:rPr sz="4000"/>
            </a:br>
            <a:r>
              <a:rPr b="0" lang="en-US" sz="4000" spc="-1" strike="noStrike">
                <a:solidFill>
                  <a:srgbClr val="000000"/>
                </a:solidFill>
                <a:latin typeface="Calibri"/>
              </a:rPr>
              <a:t>The specific duties are carried out by other elected officials” tax assessors, clerks, sheriffs, constables, et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Occasionally, people begin to congregate in an area often due to economic opportunities that exist there. Once it reaches a particular size – it can apply to the state to receive a charter in order to rule itself. This is called home rul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should discuss two more terms as well so that the rest of these slides make sense.</a:t>
            </a:r>
            <a:br>
              <a:rPr sz="4400"/>
            </a:br>
            <a:br>
              <a:rPr sz="4400"/>
            </a:br>
            <a:r>
              <a:rPr b="0" lang="en-US" sz="4400" spc="-1" strike="noStrike">
                <a:solidFill>
                  <a:srgbClr val="000000"/>
                </a:solidFill>
                <a:latin typeface="Calibri"/>
              </a:rPr>
              <a:t>The terms are sovereignty an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ructure of city governments can vary considerably. Some have mayors (strong or weak) and/or city managers. They also have city councils of varying types and local judges. </a:t>
            </a:r>
            <a:br>
              <a:rPr sz="4000"/>
            </a:br>
            <a:br>
              <a:rPr sz="4000"/>
            </a:br>
            <a:r>
              <a:rPr b="0" lang="en-US" sz="4000" spc="-1" strike="noStrike">
                <a:solidFill>
                  <a:srgbClr val="000000"/>
                </a:solidFill>
                <a:latin typeface="Calibri"/>
              </a:rPr>
              <a:t>The structure is outlined in each city’s char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lvin has a weak mayor / council form of government. They all serve for free. It hires a city manager who conducts the daily business of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has a strong mayor system and a large city council. All are paid sala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gle Purpose Governments: The state can also authorize the creation of governmental districts that focus on single, clearly defined functions.</a:t>
            </a:r>
            <a:br>
              <a:rPr sz="4000"/>
            </a:br>
            <a:br>
              <a:rPr sz="4000"/>
            </a:br>
            <a:r>
              <a:rPr b="0" lang="en-US" sz="4000" spc="-1" strike="noStrike">
                <a:solidFill>
                  <a:srgbClr val="000000"/>
                </a:solidFill>
                <a:latin typeface="Calibri"/>
              </a:rPr>
              <a:t>The most notable are independent school districts which run K-12 public education in the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include community college districts, navigation districts, port authorities, hospital and airport districts, drainage commissions, etc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are headed by elected boards. </a:t>
            </a:r>
            <a:br>
              <a:rPr sz="4400"/>
            </a:br>
            <a:br>
              <a:rPr sz="4400"/>
            </a:br>
            <a:r>
              <a:rPr b="0" lang="en-US" sz="4400" spc="-1" strike="noStrike">
                <a:solidFill>
                  <a:srgbClr val="000000"/>
                </a:solidFill>
                <a:latin typeface="Calibri"/>
              </a:rPr>
              <a:t>The boards of others are appointed by various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hould be enough to outline how we will be using the term “government.” </a:t>
            </a:r>
            <a:br>
              <a:rPr sz="4400"/>
            </a:br>
            <a:br>
              <a:rPr sz="4400"/>
            </a:br>
            <a:r>
              <a:rPr b="0" lang="en-US" sz="4400" spc="-1" strike="noStrike">
                <a:solidFill>
                  <a:srgbClr val="000000"/>
                </a:solidFill>
                <a:latin typeface="Calibri"/>
              </a:rPr>
              <a:t>Again, it will refer to the legislative, executive, and judicial institutions on the national, state and local leve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segments in this class are focused on Texas’ governing institutions, specifically how each is outlined in the Texas Constitution and how they have evolved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witch to the term</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ier it was defined as follo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it’s the battle over what the governing institutions will do, how they will do it, and who will d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refers to the external forces that influence what the people in governing institutions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definition above touches on conflict of some typ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 what sorts of things are right and wrong. </a:t>
            </a:r>
            <a:br>
              <a:rPr sz="4400"/>
            </a:br>
            <a:br>
              <a:rPr sz="4400"/>
            </a:br>
            <a:r>
              <a:rPr b="0" lang="en-US" sz="4400" spc="-1" strike="noStrike">
                <a:solidFill>
                  <a:srgbClr val="000000"/>
                </a:solidFill>
                <a:latin typeface="Calibri"/>
              </a:rPr>
              <a:t>Think of poverty programs, abortion, gay marriage, etc .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 where and how is revenue collected where and how is that revenue spent. </a:t>
            </a:r>
            <a:br>
              <a:rPr sz="4400"/>
            </a:br>
            <a:br>
              <a:rPr sz="4400"/>
            </a:br>
            <a:r>
              <a:rPr b="0" lang="en-US" sz="4400" spc="-1" strike="noStrike">
                <a:solidFill>
                  <a:srgbClr val="000000"/>
                </a:solidFill>
                <a:latin typeface="Calibri"/>
              </a:rPr>
              <a:t>Think of this as a pocketbook issue. Whose interests are served – and whose are not – by government programs, both real and propo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perhaps the most important aspect of politics is the ongoing struggle to control the institutions that then make decisions on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this involves competing in elections to win control of the legislative, execu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process is where people offer – or withhold - consent to what government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20:58:12Z</dcterms:created>
  <dc:creator>Kevin Jefferies</dc:creator>
  <dc:description/>
  <dc:language>en-US</dc:language>
  <cp:lastModifiedBy>Kevin Jefferies</cp:lastModifiedBy>
  <dcterms:modified xsi:type="dcterms:W3CDTF">2012-05-24T22:02:06Z</dcterms:modified>
  <cp:revision>202</cp:revision>
  <dc:subject/>
  <dc:title>GOVT 2306</dc:title>
</cp:coreProperties>
</file>